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6BC1-EEB2-4BE6-82F0-54A3C7010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7571-B3D4-4496-919F-50EE7ECF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73F76-615E-447A-92DA-BA5EC782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3E3F23-9CD6-4902-A568-9C14E309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9272FE-8D14-4EB6-B92C-C8DA6011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52BFE-5CEC-406A-BC71-590FD661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67F44-1DB0-4105-93CF-239F0631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F518CB-39B7-4BE3-85C5-BC84A4ED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81B932-699E-47AA-9E17-980AF59E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7A296-A375-4D7A-ABF4-5911AB0C4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C7FF30-80C5-41F2-8A60-219948769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D2583-37D9-4E5F-A600-FAC32509B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70F9-6ED9-442E-9A98-8E6B248BC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52DD6-91C5-494A-88C7-9560A543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EDBB7E-2F8A-44C7-968C-DC6AEB1C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6FDF1-21B8-424E-8E73-D904A957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E18D22-06E5-443D-8CFE-8C811148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0D610C-E3CB-408B-A071-CB3CDFEF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C8B8A-4EAE-453F-B184-DC6F18AD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FD28D-8BC5-4E94-BC5E-D13FE614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2C9F85-29E2-4D1C-B331-17EF503A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57C6A8-EB58-48BE-8425-21293AFC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C2595-1077-4FA0-AFE1-CBB17667E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9DB0-89C9-4165-880E-1EC862119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C39BB5-BC22-4ACF-B6F4-B8D95D2AF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5856-8CE0-4E47-AEAC-4A0409C88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F454-AED0-4C91-A63D-324EBEFF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DDA6-EF18-4249-B3D8-8438560E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5B92-A852-4E33-A0B1-CA22A036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61A1-3301-4D53-8681-F7A2456F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F916-1305-42B2-BB54-853F29FD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ABDF-7B5D-4F75-A2A2-793057F2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F7BC-341F-4318-94BF-41BDE4DA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F198-4C30-4116-A61D-BC0ABF1E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40CA-32D8-47BD-8FE7-8B862EC9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BAEF-EEBC-4B70-9FBA-F7A28B3F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953B-A5D9-4311-B2FB-140F06AE5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A7E5-D328-4A13-9423-73B2C4D83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C7CDC-0E15-40EF-BC0A-47FAF3D7B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602E5-902C-41AE-9845-E5ABD33E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F2FB1-A74A-4BC4-90FA-DEA978A5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6B588-9FB7-4C20-906D-ACC6CE8D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896EF-1046-420D-9C1C-403F01F5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F035-9D2C-4B82-869A-73F48B3C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DAF5E-EA25-436B-A4DB-0AFC9606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49646-6512-493B-BE5C-7005DC27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46899-4B21-4B1B-BC24-5A0E3F3D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CDB0E-9B76-4028-867B-189F4104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4380F-D8C8-4C88-937F-814B0CF5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0FF86-9A8A-4947-9328-3D48F82F6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266BA-D648-4AFF-8161-B16AF8707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2FBF4-96FD-4D5F-95C6-A3078A70C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C0593-79E7-4739-9B9E-E20EF593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B90F9-CCD7-4B58-83FA-51AB6D42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9733-01FD-44F0-BF4D-A23C72BB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2F5DD-4617-4D3A-AAEA-C5935576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DF799-91D5-4FE8-805E-7E8447F7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DF7CE-9E5E-424B-84E8-B00659C7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D6FD5-6D27-408C-86DB-8BA09691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B1D5B-8636-43AD-8E92-C4CF4D57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06400-63F8-41D7-9035-0292BB41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87853-CC2C-4AA6-A152-63ECC4AA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4876A-BA45-411F-BAF7-909DBEEA7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B6662-3247-4AB3-837C-981A4611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A907E-991D-4A76-A7BC-3BC5F8D0E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F2E0-7336-4568-A99C-5643CDD6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1499E-3B72-4427-B3E8-CD1F4ECB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9068D-0E0F-46FE-8C46-A97D17C7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A0B42-F9DA-4D31-9A5B-78DFF6C9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70847-CB14-49AD-949E-9F2AC2F4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CA8AC-9173-48AA-924B-F08B0D86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4A21E-3E79-418F-9D32-F5314256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9F08B-7838-4AC9-A592-F7373F02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FEC69-7595-4C8B-90FE-2CDD227C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A1406-E7C3-49DE-B299-85456922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1A623-C246-450E-89AD-57EEF4FCC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40AC-252E-4C46-92FE-427753A0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BA8C3-7FBD-4EFC-A1B2-B8AB7E803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FC763-152E-48A2-9ADB-3DC2B40E5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E375F-E849-4FF4-824F-30E65044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80C67-BBDE-4035-AA80-6A0B0E77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DBE8F-6797-45CA-9E29-B1C7B45F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5EF3D-2B21-48F9-9D67-2F74FCF7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7EE35-BD45-4ECC-82DD-02D67859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C7B97-50B1-40EA-9319-C3B9B476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C99E7-58ED-4E00-BFFF-EB3C39D1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475B0-0A0E-4FC3-8190-50E09C62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4578-416B-4497-BCCA-298AD650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27480-9511-4B82-93C1-C52BE589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025A3-778E-4B4B-B29B-DCBADBE11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48900-B799-45BC-B6EE-89CCFBBE1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E1046-790C-48D9-A18E-6DF554180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19AD1-B092-47D1-A9FE-05638043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AFAA7-2CA9-4654-9A4F-3036439A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8C59A-40C0-47AB-8259-749A6C2E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4064E-B387-44D3-9194-44E54CC2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23DC3-1DE2-4EF2-8806-EC071363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21519-F250-4DBF-9CA4-980F4275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243F-1E32-4DC3-AC1C-F5F23F56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91C68-AD90-4C6E-BB33-FC06A497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FF666-F4D4-4474-9FEC-B163C389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D2502-73E5-439C-96C3-AD83077C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2DC6F-0EBF-4596-B68E-D4E0EB937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AA2AA-C0B6-4783-9D95-E1A4AC92D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2FD79-7B37-4092-8FAD-0C768695B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904F3-9546-4F03-B330-3A9F5B92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31ECC-2FEB-4598-95BA-EDF72EAA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822B7-B312-4A40-AC4E-C2C935C2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66590-E7A7-4A68-9CF5-D614646F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9F70-FAD3-4290-B44B-1D8EEBFE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30DA1-039B-4328-87B6-A433BF0B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B9224-5668-4F09-9AA2-294DB0CF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A2FB2-1764-4A1B-8916-7746950B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FF9F4-AE93-41F9-B6FB-A56257B5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7DA16-CDE9-4044-8713-5599F011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4E0F2-29C8-4C32-9CD0-4F1F1159B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902E9-669D-4406-8E9F-4CB05C3E3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0F68F-2515-4CA5-B5A2-48D51FCD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7DECD-0AFE-4EBB-8EA7-A341FC24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A5EA9-4453-4679-AA94-CC856026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045A-8418-426E-9946-FCCD566A0C4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C84E-41BB-4BEA-A974-B2D8B16A364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3187-40BC-4865-AC5E-5F62751773F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459D-4DCD-4DDF-B2C5-063D7AF2902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535E-7A57-45CF-8CA6-0A8BEE2C992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6C01-2DBD-4706-93CD-7FF68BE2B0E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DF17-E766-4007-9448-59532E8B84A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8F98-20E8-496C-A831-20971966288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A5FC-9268-40F5-A2D2-2664FDCC3A2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63DE-6FF8-4C21-92D8-33FDA0987FF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9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어느 나라에서 오셨습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았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었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였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으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셨습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었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였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하철을 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를 보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진을 찍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냉면을 잡수시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전화를 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에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녁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편지를 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음 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내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결혼을 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디음 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본에 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약속이 있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6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언제 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스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ㅂ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를 봤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난 주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서울에 왔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6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결혼했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작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9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신문을 읽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청소를 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7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에서 무엇을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/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누구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           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으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십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를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          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학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도서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장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야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항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방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미영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미국 사람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제임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니요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저는 미국 사람이 아닙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미영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그럼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어느 나라에서 오셨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제임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영국에서 왔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나라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cou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미국 사람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Ameri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니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그럼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well (th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영국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Eng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니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be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나는 의사가 아닙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여기는 부산이 아닙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교과서가 아닙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≈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  which; interogative adj. always followed by a noun (cf.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누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무엇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어느 것이 좋습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어느 나라 사람입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어느 회사에서 일합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음식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호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Australi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독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캐나다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프랑스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호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room number ~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 아닙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생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정수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한국 음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교과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니요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가 아닙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           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미국사람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캐나다 사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브라운 씨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이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여자 친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은행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우체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17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3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18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어느 나라에서 오셨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서 왔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미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호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프랑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독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어느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(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교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201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역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하철을 타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청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백화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롯데백화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학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한국말을 배우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슬리퍼리록 대학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호텔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를 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신라호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2-03T16:57:09Z</dcterms:modified>
  <cp:revision>104</cp:revision>
  <dc:subject/>
  <dc:title>KOREAN LANGUAGE</dc:title>
</cp:coreProperties>
</file>